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B572-42EF-4C48-A97B-96A1525A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7983-F08F-4111-BB6A-3A15D2D0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055C-EE96-4D32-8631-FB549F66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C348-92F1-416F-BEE1-0CBCE641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50BEA-E857-4899-B9A3-59B3C54E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25873-EE8E-449F-BB07-41FCE0F5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412A7-9543-4496-B67A-BA4A1922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6E3D5-0360-4370-ACA2-6B76078B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2D679-1851-41D1-B838-2134D975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B8EDA-9264-4C42-BFDC-703D48AE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F4B98-7745-4379-8683-B091E0A3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267-E92D-464A-BEC6-A22B83B6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0F959-F686-4C3B-A72E-85D6657A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713E6-D91B-45AA-95C5-B06F9E68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19B3B-29A7-42A8-9CE2-8539A8AF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63ADD-7D81-4E3F-914D-A5E66AAA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78696-C098-424B-99B2-B47CDB8D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6552-D245-4D86-A698-AB3A289E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BACE-AAF8-4B1E-ABAF-6D128C1D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7B21-81F3-4EE4-BC67-A5B5146C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1D36-6FEA-4737-BAB6-CA9927F2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F1B-07BA-4AF8-8992-1891D901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9472-570C-43DF-8C06-3F44926D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2A4C-2BF3-4F75-BEE0-082FAD61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AF12-8391-400F-B6E0-8852B67F4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1182-1065-463D-BFBE-A8D8149ADE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struc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lide must have at least one pi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brief with your answers to the questions – you will have time to discuss in detail when you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creative!  Use forma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groups members must particip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iki page has the temp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Your of Renewable Energ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N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_______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hat are the Uses of ________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hat are the Environmental Effects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ere and how is it created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are the Drawback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23:09Z</dcterms:created>
  <dc:creator>ajohnson01</dc:creator>
  <dc:description/>
  <dc:language>en-US</dc:language>
  <cp:lastModifiedBy>BTSD</cp:lastModifiedBy>
  <dcterms:modified xsi:type="dcterms:W3CDTF">2011-04-15T12:15:11Z</dcterms:modified>
  <cp:revision>4</cp:revision>
  <dc:subject/>
  <dc:title>Your of Renewable Energy</dc:title>
</cp:coreProperties>
</file>